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84FB-52D7-4AF6-B84B-0BE60206C340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5828-DEAD-4625-BB05-38B3CF9F710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0934-42DD-4CA4-BCA9-CBD2885832D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F3A3-8C12-41B0-81D3-196399C7155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D9A9-2F52-41C8-9881-75945F92933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93F5-9B68-4F0A-8E1C-A05BD0D53EB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D052-21DF-43D3-9294-3F79FCFA2F5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756-5268-4E44-A02D-6A521707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F06-DFEC-465C-9CD4-3F937287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2A5-C3C6-478D-AFD9-E9CEF2CD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C01-C166-4169-95C9-EF439923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5B06-B21B-465D-8174-63B6A6CA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AA03-0AFB-49A3-9E75-E4744C5C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6C45-1295-434D-9836-9F711F7B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83E2-8A2C-4A18-8743-4750286D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0EA9-0E3C-4EF5-9094-0E15207D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8FD9-EC58-40FB-870A-08F24028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FDB8-CC7F-4B06-A8C0-99E27529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E48-A83D-4CE2-989B-9A519F72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95CD-065E-4677-9B84-4ECEB521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1F8E-35ED-4C03-B364-7020A96E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0627-7B90-48B3-99B8-93D0672E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7802-DBD5-4374-AA6B-B1809B51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BA670-B54E-453A-A0C2-143D77736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1DC-CE2C-4344-B89B-70419299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FCB-C4A4-4421-A425-865A93A9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10CF-2C86-40BC-BF1B-3A94CC11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44F3-879F-4367-89A2-BCC5442F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19A5-7FFF-473B-B5A1-147DEA13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6B8-1F44-4E06-8121-BED92FF3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A37-038F-49DE-A7A8-B649A7A3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6680-629F-4EC9-A06B-FE046FAB7C0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B613-1D4D-4EA5-8BA7-BF63285C23E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8. – 9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6:05Z</dcterms:modified>
  <cp:revision>349</cp:revision>
  <dc:subject/>
  <dc:title>Slide 1</dc:title>
</cp:coreProperties>
</file>